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9DCB-DFFC-4DDF-B827-A35691564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BB22-D1BC-4E1E-910F-489ED91F0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6157-E3F3-4E55-9F8E-9136C7D2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7EDD-63FF-477D-90F7-F5E86C7CF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71AA-150A-48FC-B3E5-CC823C4E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F048-E769-4878-A259-7C276B08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E29E-7751-4ABD-8634-7912552F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BE4B-1540-4822-BA62-9F1B8FF4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B511-F789-41AC-8816-5A5D0FC8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AFE3-B51F-40D9-97C2-F1A1525E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5A75-5D62-43F3-8B4C-C1D6D4E3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C36B-3F8E-474E-8526-EB8E374F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C361-E344-4902-A856-CAF97378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A0BB-6402-4C37-A26B-A9784673C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0080" y="1752480"/>
            <a:ext cx="2514600" cy="1768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95680" y="1771560"/>
            <a:ext cx="2522520" cy="1762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905120" y="3600360"/>
            <a:ext cx="2522520" cy="1771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495680" y="3600360"/>
            <a:ext cx="2522520" cy="1752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" y="152280"/>
            <a:ext cx="8229600" cy="5637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1790640"/>
            <a:ext cx="5410080" cy="0"/>
          </a:xfrm>
          <a:prstGeom prst="line">
            <a:avLst/>
          </a:prstGeom>
          <a:ln w="104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53341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800" spc="-1" strike="noStrike">
                <a:solidFill>
                  <a:srgbClr val="a50021"/>
                </a:solidFill>
                <a:latin typeface="Arial Black"/>
              </a:rPr>
              <a:t>June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2193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 Black"/>
              </a:rPr>
              <a:t>MTA Proposed 2005-2009</a:t>
            </a: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Arial Black"/>
              </a:rPr>
              <a:t>Capital Program Amendmen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6628-2390-400F-A94D-EBB38265D01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                 Inter-Agenc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736640"/>
            <a:ext cx="815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establishes MTA Planning Element for projects previously approved by the Board, to be funded from L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a Stadium Stations Investments ($32 mill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pan Zee Bridge EIS ($28 mill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7959-C6C6-4AD6-B0AB-933402622C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submitted for discussion and inp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amendment will be brought to Finance Committee and Board in Ju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equently will be submitted to CPRB for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d 2005-2009 Capital Program Amendment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60EB-6162-4F8F-9A7D-30BFFF1CF9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3822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9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 Programs are regularly amended, annually or semi-annually, to reflect changes in project scopes, costs or pri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changes occur within the original program enve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comprehensive 05-09 amendment approved by Board in  December 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CPRB approved plan March 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ndments to the 05-09 Program were suspended during development of 2008-13 accelerated progra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bsence of Congestion Pricing, next program will follow original 10-14 period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amendment reflects impacts of regional construction market conditions and new priorities since the last amend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in this amendment were largely anticipated in 08-13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increases are offset by defer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deferred to next program will come at a higher cost than currently budge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ed today for consideration and comment; final amendment to be submitted at July Finance and Board meet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76320"/>
            <a:ext cx="8229600" cy="563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ckground of Proposed Ame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F1B5-4AE1-44E5-A236-053500AF37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632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porates FFGA’s for SAS and ESA previously approved by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764 million for SAS and the remaining balance of $267million for ESA (since April ‘07 Board amendmen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s funds from discontinued LaGuardia Airport Access project in 2000-2004 progr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s LGA-funded projects previously approved by Board (South Ferry, TZ Bridge Study, LMCCC and Shea station initiat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s remaining LGA funds to NYCT ($80 million), LIRR ($16 million) and MNR ($11 million) to fund work that would otherwise have been in next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RB approval required for these funding changes and program elements with increases greater than 10% since last CPRB approved plan (March ’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8380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28600"/>
            <a:ext cx="8229600" cy="563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d 2005-2009 Capital Program Ame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0D3F-1560-4451-BFD1-44C06CB205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920" y="15699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ity in Agency Priorities and Tradeof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increases reflect higher project costs and new priority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y given to fund projects that maximize safe serv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offs to Fund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r projects that were likely to occur late in the program or that are experiencing delays; reprogramming early into next program minimizes imp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d 2005-2009 Capital Program Ame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ACF5-0EAE-4C32-BCC6-E2E5780350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0" y="1294920"/>
            <a:ext cx="403848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6858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York City Trans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914400"/>
          <a:ext cx="4038480" cy="380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Increases:  $2.3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572000" y="914400"/>
          <a:ext cx="4038480" cy="380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Deferrals:  $2.4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57200" y="3886200"/>
          <a:ext cx="4038480" cy="27352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9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Increases in 05-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Division Cars                               164              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nd Buses to Replace Artics          88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Growth in 23 Stations             340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shing CBTC and WPR Signals  194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lver Viaduct                                   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a Hale Depot                              2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Growth in Prior Plan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1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457200" y="1479600"/>
            <a:ext cx="40384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w Projects in 05-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 Div Growth Cars                       $200 m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’l Paratransit                              33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ood Control (LGA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/Screens at 44 Dark Stations      47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ons Component Prog.              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523880"/>
            <a:ext cx="38862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2 Artics                                   $54 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 Station Rehabs                        279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nt Plants                                   385                                 Tunnel Lighting                             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uctural Painting Projects         57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lver Line Signals                       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BL Interlocking                          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7th Overhaul Shop                   25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maica Depot                             1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mer and Flatbush Depots          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 Radio Project                          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L                                                 5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 Track Project                             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62485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03D2-A916-4370-AF98-D8AE494F15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0" y="1294920"/>
            <a:ext cx="412128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 Island Rail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914400"/>
          <a:ext cx="4038480" cy="380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Increases:  $174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572000" y="914400"/>
          <a:ext cx="4121280" cy="380880"/>
        </p:xfrm>
        <a:graphic>
          <a:graphicData uri="http://schemas.openxmlformats.org/drawingml/2006/table">
            <a:tbl>
              <a:tblPr/>
              <a:tblGrid>
                <a:gridCol w="41212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Deferrals:  $141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57200" y="4267080"/>
          <a:ext cx="4038480" cy="23925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3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Incre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Fixation Track Repl,            $14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T Fire &amp; Life Safety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ual Track Program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1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bylon Car Wash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aica Fit-Out (Phase 2)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t. of Way Repair Facility             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457200" y="1523880"/>
            <a:ext cx="4343400" cy="28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w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ushing/Flatbush Elevators (LGA) $10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maica Capacity Study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-7 Hor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7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dge Painti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eens Village Elevators                   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Queens Projects (LGA)        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Y Substa/Tower Reloc. Design    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1523880"/>
            <a:ext cx="403992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bylon to Patchogue Signals      $21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maica Interlocking Design              1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tauk Branch bridge rehabs          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way (Port Wash. Branch)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0th St. (Jamaica) bridge work         1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y Interlocking Reconfig Design        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nn Sta. Facilities &amp; Yards work        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4130-5EF1-4877-9465-1B4635E912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0" y="1294920"/>
            <a:ext cx="41212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ro-North Rail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914400"/>
          <a:ext cx="4038480" cy="380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Increases:  $74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572000" y="914400"/>
          <a:ext cx="4121280" cy="380880"/>
        </p:xfrm>
        <a:graphic>
          <a:graphicData uri="http://schemas.openxmlformats.org/drawingml/2006/table">
            <a:tbl>
              <a:tblPr/>
              <a:tblGrid>
                <a:gridCol w="41212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Deferrals:  $43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57200" y="3733920"/>
          <a:ext cx="4038480" cy="27432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Incre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ton-Harmon Shop Master Plan $11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 of Hudson Locomotives (4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-Life Remanufacture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$7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tlandt Parking– CMAQ funded     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ughkeepsie Station Building         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wart Airport A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457200" y="1600200"/>
            <a:ext cx="4038480" cy="17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w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CT Employee Facilities Rehab.   $18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x Stas/Capacity Imprvmts (LGA)   1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ral Hat Bldg Purch. (Beacon, NY) 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1523880"/>
            <a:ext cx="40402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-2 CSR (superseded by  M-8s)    $10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rrytown Platform/Overpass            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CT Leaks Remedi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oton-Harmon/Peekskill Sta. work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con Line Undergrade bridges      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HL Undergrade bridge work (2)       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FA99-0E75-40DC-B265-C3B716BD6F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648320" y="1523880"/>
            <a:ext cx="41544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nryHudson U/L TollPlaza decks $18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iborough decks-Toll Plaza/Ramp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BT Elect. System upgrad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gs Nk Anch&amp;Tower Protec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gs Nk Orthotropic deck rehab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olations Enforcement Syste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ced Automated Trf. Detec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nd Generation E-Zpass In-La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lt Pkwy Ramp widening desig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0" y="1294920"/>
            <a:ext cx="417672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idges and Tu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914400"/>
          <a:ext cx="4038480" cy="380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Increases:  $142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4572000" y="914400"/>
          <a:ext cx="4176720" cy="380880"/>
        </p:xfrm>
        <a:graphic>
          <a:graphicData uri="http://schemas.openxmlformats.org/drawingml/2006/table">
            <a:tbl>
              <a:tblPr/>
              <a:tblGrid>
                <a:gridCol w="417672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Deferrals:  $136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57200" y="3733920"/>
          <a:ext cx="4038480" cy="27432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Incre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x-Whtstne Approach Decks       $44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gs Nk Concrete Deck Repl.        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razano Approach Deck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borough Bldg 104 rehab.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T Ventilation rehabilitation         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ens Midtown building rehabs.   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457200" y="1523880"/>
            <a:ext cx="403848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w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razano Structural Steel Rprs.  $11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A724-8442-4121-A51E-C625BB9481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304920"/>
            <a:ext cx="8229600" cy="7617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              Capital Construction Compan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371600"/>
            <a:ext cx="81536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budget increases from $6.325 billion to $7.394 b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s remaining $267 million from FFGA to ESA ($1.255 b added in April Board amend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s FFGA’s $764 million to 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cost growth identified in 2008-2013 Program is not reflected in amendment;  will be incorporated in next capita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incorporates two projects previously approved by the board, to be funded with $37.7 million from LGA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 South Ferry Terminal ($27.3 mill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MTA’s share of Lower Manhattan Construction Command Center ($10.4 mill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RB approval will be needed to add FFGA funds, which are critical to the progression of ESA in 200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7885-A7D4-49B4-8DCF-95044A3CCF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04:26:21Z</dcterms:created>
  <dc:creator>MTA</dc:creator>
  <dc:description/>
  <dc:language>en-US</dc:language>
  <cp:lastModifiedBy>MTA</cp:lastModifiedBy>
  <dcterms:modified xsi:type="dcterms:W3CDTF">2008-06-23T14:23:28Z</dcterms:modified>
  <cp:revision>264</cp:revision>
  <dc:subject/>
  <dc:title>Sizing the Core Program</dc:title>
</cp:coreProperties>
</file>